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Bankruptcy a S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 Gra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unice Helg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ve P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g S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im Siew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MG708 / MMSE8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2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871800" y="1862280"/>
            <a:ext cx="47386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Bankruptcy a Solution?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 . . Or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514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19600" y="4114800"/>
            <a:ext cx="2305080" cy="11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182880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19560" y="2895480"/>
            <a:ext cx="1266840" cy="1219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079800" y="2070000"/>
            <a:ext cx="2522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owe a pil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4400" y="2984400"/>
            <a:ext cx="3421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you only have a 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63680" y="4508640"/>
            <a:ext cx="3979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ead of writing lots of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2200" y="5527800"/>
            <a:ext cx="36385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y bankruptc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609480"/>
            <a:ext cx="71629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: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286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un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and overview of 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tion and leg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, the Bad, and the Ug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od; Who 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bad and ugl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ngers and dis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ef case histories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05360" y="100080"/>
            <a:ext cx="1662120" cy="19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3567240"/>
            <a:ext cx="3124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osing notes - Is Bankruptcy a Solution?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Stein (Feast for Lawyers) and a conversation with Bruce Hend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523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chapter 11’s end up liquid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ractice, the lawyers and accountants get paid first - they won’t work without their 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apter 11 company pays all legal and accounting f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less there is “critical mass”, the fees usually drain all the cash and the company liqui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lots of small cases, only a few big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aco and Manville could afford the legal f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in and Day and the smaller companie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 . . .  Is bankruptcy a s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56386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 . . It depends    (Question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00280" y="1376280"/>
            <a:ext cx="3933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