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nkruptcy Strategies - Who wi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09480" y="19051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MG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514760" y="2190600"/>
            <a:ext cx="3305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11 - a more likely sequence of event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Rosenberg, pp. 30-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219320"/>
            <a:ext cx="845820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tkeepup Inc. makes 2nd class lightbu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s in trouble when Light Up the World Company introduces a new, long-lasting fluorescent 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tkeepup defaults on bond interest payments; vultures start circ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an O. Treyding is a Migratory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 C. Greene is a nest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h analyze Cantkeepup and its debt; both conclude it’s worth a throw of the dice at the righ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yding buys bank debt; looks for banks suffering “lender fatig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banks want to sell now and ge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yding will slog it out in court to get more value out of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e believes Cantkeepup has enough value to pay the bank debt in full -- with very little left over for everyone e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ckholders are hopelessly under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Cantkeepup will likely pay off its bondholders and creditors with newly issued stock when they emer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Greene quietly buys up 2/3 of unsecured debt for a few cents on the dollar - more than enough to block an unsatisfactory plan in the event of chapter 11, but still at risk of a cram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quence of event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14400" y="914400"/>
            <a:ext cx="7162920" cy="47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on, Cantkeepup’s management proposes a de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will pay the cash value + interest for all bank cred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secured creditors get a “haircut”, recovering only some of their money in the form of stocks and bo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ckholders retain a majority of the eq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yding loves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e isn’t happy because he now owns a truckload of b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Greene and other bondholders file with the court to force Cantkeepup into Chapter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tkeekup gives up and files volunta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w Cantkeepup has a 3 month exclusivity period to file a reorganization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.S. Trustee appoints a committee to represent the unsecured cr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Greene chooses to negotiate on his 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goes forward slowly as the court grants extension after extension to Cantkeepup’s exclusivity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144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quence of event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219320"/>
            <a:ext cx="7162920" cy="48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ly Cantkeepup releases a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Bank Creditors (including Treyding) and the unsecured creditors committee endorse the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lan says the company’s value is now less than before Chapter 11 because the business deterio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yding is satisfied and wants his money.  The meter is runn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e is not happy and refuses to sign.  He believes the values are gre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ly, Greene agrees to invest a wad of new capital in return for a majority stake in the new equ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tkeepup “emerg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yding gets his principle plus a 30 percent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e brings in new management, who diversify the business into sculptural light fix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take off and the stock goes through the 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uple years later, Greene and Treyding swap stories about their home run over a few be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u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to get rich buying Bankrupt Companies, Lawrence H. Kallen, 1989, Caro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ulture Investors -- The Winners and Losers of the Great American Bankruptcy Feeding Frenzy, Hilary Rosenberg, 1992, HarperCo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ving Your Business -- How to Survive Chapter 11 Bankruptcy and Successfully Reorganize Your Company, Suzanne Caplan, 1992.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 Fall -- The Needless Destruction of Eastern Air Lines and the Valiant Struggle to Save it, Jack E. Robinson, 1992, HarperCo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Referenc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143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Feast for Lawyers, Sol Stein, 1989, M. Evans and Company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wers of Debt -- The Rise and Fall of the Reichmanns, Peter Foster, 1993, Key Porter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Way to Run a Railroad -- The Untold Story of the Penn Central Crisis, Stephen Salsbury, 1982, McGraw-Hill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to Get Your Creditors off your Back Without Losing Your Shirt, Melvin J. Kaplan, 1979, Contemporary Book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uce Hendry’s Eclectic Adventures”, Twin Cities Business Monthly, September 1993, pp. 65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ugnacious Bulldog’ Fighting for Kaiser Steel”, Business Week, Feb. 16, 1987, pp.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uce E. Hendry, Craig-Hallum Inc. -- Barreling Ahead”, Corporate Report Minnesota, March 1993, page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r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98760" y="5234040"/>
            <a:ext cx="215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who get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89280" y="188136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get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1704960"/>
            <a:ext cx="5172120" cy="2219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10240" y="4419720"/>
            <a:ext cx="2147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1120" y="3809880"/>
            <a:ext cx="144792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7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11 -- The Play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98560" y="1424160"/>
            <a:ext cx="1976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ed cr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he 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0160" y="3862440"/>
            <a:ext cx="139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b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36840" y="2338560"/>
            <a:ext cx="2309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ecured Cr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ctr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ior bond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ctr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ior bond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27160" y="4853160"/>
            <a:ext cx="1467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ck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51240" y="4624560"/>
            <a:ext cx="1467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ck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2160" y="1652760"/>
            <a:ext cx="156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wyer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oun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very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32680" y="3633840"/>
            <a:ext cx="2114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nkruptcy Co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the 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13560" y="4700520"/>
            <a:ext cx="1415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rus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066680"/>
            <a:ext cx="259092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981080"/>
            <a:ext cx="3124080" cy="16002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33920"/>
            <a:ext cx="1828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495680"/>
            <a:ext cx="228600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4495680"/>
            <a:ext cx="1752480" cy="9907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4495680"/>
            <a:ext cx="16765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505320"/>
            <a:ext cx="2438280" cy="838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219320"/>
            <a:ext cx="1905120" cy="2057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51240" y="3862440"/>
            <a:ext cx="1314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1360" y="2948040"/>
            <a:ext cx="2000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cr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he gover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2590920"/>
            <a:ext cx="259092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es of claim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Kallen, Chapter 4; also pp. 126-1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838080"/>
            <a:ext cx="7772400" cy="55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d deb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guys get the property if you don’t pay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want their money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ng expenses during bankrupt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ounting and legal fees during bankrupt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wages and benefits subject to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ecured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uppliers, bond holders, and everyone else the Debtor owes money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ce everyone else gets paid first, these guys are more likely to be willing to 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interests are last i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it’s not really that black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ed claims are not always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ference”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bts” -- executory contra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Kallen, pp. 82-8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1676520"/>
            <a:ext cx="71629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s where the Debtor and another party have continuing du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btor may “assume” or “reject” contracts at it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rid of onerous leases and union contracts  by reject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nk Lorenzo of Continental Airlines got rid of his union contracts this way in September, 198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Also See Robinson, pp. 40-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Congress amended the bankruptcy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hapter 11 company must now show that its union contracts are so onerous that the company cannot profitably reorganize without their rej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 this part of NWA’s implied thr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11 ideal sequence of event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Caplan, page 6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447920"/>
            <a:ext cx="7162920" cy="44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is filed, automatic stay is iss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 bankruptcy petition is f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otion is made by the debtor’s attorney for use of cash 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ditors are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P financing may be se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341 meeting (debtor, creditors, trustee) will be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editors committee may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tor has 120 day exclusive right to file a reorganiz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s and leases will be assumed or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ts may be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isclosure statement and plan will be f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hearing will be held on the disclosur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ting will be done on the plan ** (But see details on vot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organization confirmed - newly reorganized company e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Voting work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Kallen, chapte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838080"/>
            <a:ext cx="8305920" cy="53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val by the creditors simply consists of achieving the requisite votes in favor of the plan, by class.  A class of creditors will be deemed to have approved the plan if a majority in nu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least two thirds in amount of claim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ose vo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st their votes for acceptance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Kallen, p. 1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tor owes $1000 to 5 creditors in a class; 500 to creditor A, $100 each to B -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 all these creditors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ditor A and 2 others must vote “yes” for this class to ap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anybody who holds more than 1/3 of any class of debt can block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. . . the judge can override a blocking vote if the other parties convince the court the blocker will get everything they are entitled to get under the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cramdow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See Kallen, pp. 131-133 for a thorough discussion of cramd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hapter 11 Vultur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Rosenberg, pp: 26-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680" y="1295280"/>
            <a:ext cx="716292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who invest in distressed situations for a living, know the rules, and know how to profit from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ory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Otherwise known as speculators and trad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debt instruments from various creditors cheap; bet the security will pay off at a much higher price when the company is ultimately re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st bui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quire either the whole company or a sizable chunk of deb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otiate a plan of reorganization that places them in the leading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 this for stock when the company is reorga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 the company themselves after re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me tactic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Rosenberg, pp: 26-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itte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s on the creditors committee in a distressed situation, either before or after bankruptcy f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iest and cheapest route to secure influenc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y to inside information once on the panel, therefore must usually sign away the right to trade in debtor’s secur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eavy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s a heap of bonds and piles them onto his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uy enough for majority ownership, or enough to block unfavorable reorganization pl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